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3FA-CFAB-44FD-AF92-6C3D29A8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154-72D8-4F63-819C-EB2112F3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963-EBC2-4481-913A-85974CC2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B322-7A43-4AFC-90AD-2ACD95FC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0A7-D371-4AC9-BA8C-4EF29F9C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FEA-1A95-418E-8FD0-4D1FA8E0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062E-3580-44C1-AC22-D8CEB70E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9E87-875E-4CA5-B419-5676B5F8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55D7-24CC-4A9C-AB47-7AAF1546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9ED6-E9AF-4321-A2E4-5BF4B6EF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0428-F41B-433F-9E9D-25A2F057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8D5-5AE3-4602-BCCC-7713F9E2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F0B8-14ED-4A6A-BE5D-1C9D73255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90756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พื้นที่ผิวและปริมาตร</a:t>
            </a:r>
            <a:r>
              <a:rPr b="0" lang="th-TH" sz="4800" spc="-1" strike="noStrike">
                <a:solidFill>
                  <a:srgbClr val="000000"/>
                </a:solidFill>
                <a:latin typeface="Arial"/>
              </a:rPr>
              <a:t>พีระมิ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00360" y="5229360"/>
            <a:ext cx="37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3141720"/>
            <a:ext cx="64008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ครูผู้สอน ส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ต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ต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ไพบูลย์ ศรีบุญมี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กลุ่มสาระการเรียนรู้คณิตศาสตร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เรื่อง พื้นที่ผิวและปริมาตรรูปทรงเรขาคณ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ชั้นมัธยมศึกษาปีที่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โรงเรียนบ้านดอนขี้เหล็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สำนักงานเขตพื้นที่การศึกษาอุดรธานี เขต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4000" y="2421000"/>
            <a:ext cx="1726920" cy="1079280"/>
          </a:xfrm>
          <a:prstGeom prst="parallelogram">
            <a:avLst>
              <a:gd name="adj" fmla="val 400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27280" y="189000"/>
            <a:ext cx="554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การหาความสูง กรณีมีสูงเอีย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58920" y="907920"/>
            <a:ext cx="36036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58920" y="907920"/>
            <a:ext cx="649080" cy="1944720"/>
          </a:xfrm>
          <a:prstGeom prst="line">
            <a:avLst/>
          </a:prstGeom>
          <a:ln w="9360">
            <a:solidFill>
              <a:srgbClr val="99cc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55640" y="907920"/>
            <a:ext cx="503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58920" y="907920"/>
            <a:ext cx="7920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692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8000" y="249228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00000" y="263700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58920" y="907920"/>
            <a:ext cx="0" cy="19447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58920" y="2852640"/>
            <a:ext cx="64908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76500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ตัวอย่างที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พีระมิดฐานสี่เหลี่ยมจัตุรัสมีด้านฐานยาวด้านละ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10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ี้วสูงเอียงยาว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13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ิ้ว จงหาความ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92720" y="1844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C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ป็นส่วนสู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84360" y="1844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ให้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ป็นความสูงเอียง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03640" y="2492280"/>
            <a:ext cx="68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BC</a:t>
            </a:r>
            <a:r>
              <a:rPr b="0" lang="th-TH" sz="2800" spc="-1" strike="noStrike">
                <a:solidFill>
                  <a:srgbClr val="80808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9999"/>
                </a:solidFill>
                <a:latin typeface="Angsana New"/>
              </a:rPr>
              <a:t>เป็นความยาวครึ่งหนึ่งของด้านฐาน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ยาว คือ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10 </a:t>
            </a:r>
            <a:r>
              <a:rPr b="0" lang="th-TH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= 5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ิ้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23640" y="907920"/>
            <a:ext cx="9349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24000" y="3141720"/>
            <a:ext cx="61200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ตามทฤษฎีปีทาโกรัส ใน รูปสามเหลี่ยมมุมฉา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+ 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=  1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th-TH" sz="3200" spc="-1" strike="noStrike" baseline="30000">
                <a:solidFill>
                  <a:srgbClr val="000000"/>
                </a:solidFill>
                <a:latin typeface="Angsana New"/>
              </a:rPr>
              <a:t>            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169 – 2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        =   1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C        =   12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    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ตอบ  ส่วนสูง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12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ิ้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0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35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6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6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6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6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9" dur="500" autoRev="1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80" dur="500" autoRev="1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81" dur="500" autoRev="1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6" dur="250" autoRev="1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5080" y="286920"/>
            <a:ext cx="48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พื้นที่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ผิวข้าง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พีระมิ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1700280"/>
            <a:ext cx="72072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32000" y="619200"/>
            <a:ext cx="720720" cy="10810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332000" y="2419200"/>
            <a:ext cx="720720" cy="936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2161440" y="1591200"/>
            <a:ext cx="718920" cy="936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468360" y="1555920"/>
            <a:ext cx="720720" cy="10094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16360" y="907920"/>
            <a:ext cx="64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หน้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555640" y="1197000"/>
            <a:ext cx="360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763640" y="1197000"/>
            <a:ext cx="11527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971640" y="1197000"/>
            <a:ext cx="1944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692360" y="1197000"/>
            <a:ext cx="122400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360" y="242100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ทุกหน้าของพีระมิด เป็นพื้นที่ผิวข้างของพีระม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03280" y="335772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ื้นที่ผิวข้างพีระมิ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ผลรวมของพื้นที่ทุกหน้าที่เป็นรูปสามเหลี่ย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429264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พื้นที่ผิวข้างพีระมิ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จำนวนหน้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ด้านฐา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งเอียง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84720" y="1197000"/>
            <a:ext cx="309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67280" y="98100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ิจารณาแผ่นคลี่ของพีระม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2852640"/>
            <a:ext cx="64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55640" y="220464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544500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หรือ  สูตร พื้นที่ผิวข้างพีระมิ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ความยาวรอบฐา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งเอีย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5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7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708360" y="333360"/>
            <a:ext cx="25192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พื้นที่ผิวพีระมิ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1268280"/>
            <a:ext cx="72072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87280" y="187200"/>
            <a:ext cx="720720" cy="10810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187280" y="1987560"/>
            <a:ext cx="720720" cy="936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5400000">
            <a:off x="2016720" y="1159560"/>
            <a:ext cx="719280" cy="936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323640" y="1123560"/>
            <a:ext cx="720720" cy="10098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4076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พื้นที่ผิวข้างพีระมิ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ความยาวรอบฐา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งเอีย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9640" y="3068640"/>
            <a:ext cx="23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ข้างพีระม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92360" y="2276640"/>
            <a:ext cx="20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105264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ฐานพีระม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619280" y="1197000"/>
            <a:ext cx="1728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48000" y="1989000"/>
            <a:ext cx="431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11280" y="234936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พื้นที่ฐานพีระมิดฐานสี่เหลี่ยมจัตุรั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ด้า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ด้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979640" y="1700280"/>
            <a:ext cx="21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1402920" y="1125000"/>
            <a:ext cx="576360" cy="179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971640" y="1628280"/>
            <a:ext cx="1008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1476360" y="249192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00000" y="537372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พื้นที่ผิวพีระมิด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ื้นที่ฐานพีระมิด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ื้นที่ผิวข้างพีระม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92720" y="126828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ิจารณาแผ่นคลี่ของพีระม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8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95280" y="404640"/>
            <a:ext cx="84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333360"/>
            <a:ext cx="691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26028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ตัวอย่าง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ที่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พีระมิด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ฐานสี่เหลี่ยมจัตุรัสมีด้านฐานยาวด้านละ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นี้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และ สันยาว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นิ้ว จงหาพื้นที่ผิวของพีระมิดนี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43280" y="1989000"/>
            <a:ext cx="59767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ตามทฤษฎีปีทาโกรัส ใน รูปสามเหลี่ยมมุมฉา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+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=   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th-TH" sz="3200" spc="-1" strike="noStrike" baseline="30000">
                <a:solidFill>
                  <a:srgbClr val="000000"/>
                </a:solidFill>
                <a:latin typeface="Angsana New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  25 – 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   =  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        =   4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ได้  สูงเอียง 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4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ิ้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2421000"/>
            <a:ext cx="1726920" cy="1079280"/>
          </a:xfrm>
          <a:prstGeom prst="parallelogram">
            <a:avLst>
              <a:gd name="adj" fmla="val 400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907920"/>
            <a:ext cx="36036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71640" y="907920"/>
            <a:ext cx="287280" cy="2592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23640" y="907920"/>
            <a:ext cx="9349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55640" y="907920"/>
            <a:ext cx="503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58920" y="907920"/>
            <a:ext cx="7920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692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3429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03280" y="342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95640" y="134136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ให้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C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ป็นสัน ยาว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5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ิ้ว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48360" y="134136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และ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ป็นความสูงเอียง</a:t>
            </a:r>
            <a:r>
              <a:rPr b="0" lang="th-TH" sz="3200" spc="-1" strike="noStrike">
                <a:solidFill>
                  <a:srgbClr val="99cc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24360" y="5877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99"/>
                </a:solidFill>
                <a:latin typeface="Arial"/>
              </a:rPr>
              <a:t>ต้องหาพื้นที่ผิว ต่ออี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4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50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6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63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65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6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68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6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70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7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73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75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7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78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7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8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88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8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9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1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95" dur="1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6" dur="1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07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2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87280" y="18900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พื้นที่ผิวข้างพีระมิ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ความยาวรอบฐา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งเอีย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87280" y="765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ได้พื้นที่ผิวข้างพีระมิ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( 6 + 6 + 6 + 6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=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24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=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 48  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ตารางนิ้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87280" y="256536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พื้นที่ฐานพีระมิดฐานสี่เหลี่ยมจัตุรั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ด้า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ด้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71640" y="4221000"/>
            <a:ext cx="7345440" cy="10688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พื้นที่ผิวพีระมิด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ื้นที่ฐานพีระมิด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ื้นที่ผิวข้างระม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87280" y="3068640"/>
            <a:ext cx="7201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พื้นที่ฐานพีระมิดฐานสี่เหลี่ยมจัตุรัส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6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        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=   36   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ตารางนิ้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16000" y="4941720"/>
            <a:ext cx="640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87280" y="4869000"/>
            <a:ext cx="6912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ได้   พื้นที่ผิวพีระมิ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พื้นที่ฐานพีระมิด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พื้นที่ผิวข้างพีระมิ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=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  36  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+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84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ตารางนิ้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24000" y="2421000"/>
            <a:ext cx="1726920" cy="1079280"/>
          </a:xfrm>
          <a:prstGeom prst="parallelogram">
            <a:avLst>
              <a:gd name="adj" fmla="val 400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258920" y="907920"/>
            <a:ext cx="36036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58920" y="907920"/>
            <a:ext cx="649080" cy="1944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55640" y="907920"/>
            <a:ext cx="503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58920" y="907920"/>
            <a:ext cx="7920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32000" y="692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8000" y="249228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00000" y="263700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58920" y="90792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58920" y="2852640"/>
            <a:ext cx="64908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19280" y="189000"/>
            <a:ext cx="73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ตัวอย่างที่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5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พีระมิดฐานสี่เหลี่ยมจัตุรัสมีด้านฐานยาวด้านละ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10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ี้ว                    ส่วนสูงยาว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12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ิ้ว จงหาพื้นที่ผิวข้างพีระม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340000" y="11970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ให้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C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ป็นส่วนสูง ยาว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12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ิ้ว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24360" y="119700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และ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ป็นความสูงเอียง</a:t>
            </a:r>
            <a:r>
              <a:rPr b="0" lang="th-TH" sz="2800" spc="-1" strike="noStrike">
                <a:solidFill>
                  <a:srgbClr val="99cc00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340000" y="1773360"/>
            <a:ext cx="68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BC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ป็นความยาวครึ่งหนึ่งของด้านฐาน ยาว คือ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10 </a:t>
            </a:r>
            <a:r>
              <a:rPr b="0" lang="th-TH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= 5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ิ้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23640" y="907920"/>
            <a:ext cx="9349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2276640"/>
            <a:ext cx="63356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ตามทฤษฎีปีทาโกรัส ใน รูปสามเหลี่ยมมุมฉา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 =  1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+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       </a:t>
            </a:r>
            <a:r>
              <a:rPr b="0" lang="th-TH" sz="3200" spc="-1" strike="noStrike" baseline="30000">
                <a:solidFill>
                  <a:srgbClr val="000000"/>
                </a:solidFill>
                <a:latin typeface="Angsana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144 + 25           =   1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        =   13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      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ได้  สูงเอียง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13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ิ้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16000" y="429264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พื้นที่ผิวข้างพีระมิด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ความยาวรอบฐาน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งเอีย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16000" y="4797360"/>
            <a:ext cx="712800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ได้พื้นที่ผิวข้างพีระมิด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( 10 + 10 + 10 + 10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=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½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40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=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 260  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ตารางนิ้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0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6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67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6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8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9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9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9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9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6" dur="500" autoRev="1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07" dur="500" autoRev="1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08" dur="500" autoRev="1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3" dur="250" autoRev="1" fill="hold"/>
                                        <p:tgtEl>
                                          <p:spTgt spid="3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8" dur="500" autoRev="1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39" dur="500" autoRev="1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40" dur="500" autoRev="1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549000"/>
            <a:ext cx="482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การหาปริมาตรพีระมิ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16000" y="508464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ปริมาตรของพีระมิ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พื้นที่ฐาน</a:t>
            </a:r>
            <a:r>
              <a:rPr b="0" lang="th-TH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สูง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76360" y="1773360"/>
            <a:ext cx="719280" cy="792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340000" y="220500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จากสูตร   ปริมาตรปริซึ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ื้นที่ฐาน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42920" y="3068640"/>
            <a:ext cx="720720" cy="216000"/>
          </a:xfrm>
          <a:prstGeom prst="parallelogram">
            <a:avLst>
              <a:gd name="adj" fmla="val 834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042920" y="3284640"/>
            <a:ext cx="504720" cy="57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258920" y="3068640"/>
            <a:ext cx="504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56000" y="3141720"/>
            <a:ext cx="720720" cy="216000"/>
          </a:xfrm>
          <a:prstGeom prst="parallelogram">
            <a:avLst>
              <a:gd name="adj" fmla="val 834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556000" y="3357720"/>
            <a:ext cx="504720" cy="57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771280" y="3141720"/>
            <a:ext cx="5050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35280" y="3068640"/>
            <a:ext cx="720720" cy="216000"/>
          </a:xfrm>
          <a:prstGeom prst="parallelogram">
            <a:avLst>
              <a:gd name="adj" fmla="val 834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835280" y="3284640"/>
            <a:ext cx="504720" cy="57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050560" y="3068640"/>
            <a:ext cx="5050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19640" y="299736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เมื่อ พีระมิดที่มีส่วนสูงและฐานเท่ากับปริซึ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42920" y="393372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มื่อทำการตวง   จะได้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ปริมาตรพีระมิด เท่ากับ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ปริมาตรปริซึ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59280" y="1341360"/>
            <a:ext cx="172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43280" y="1484280"/>
            <a:ext cx="48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ให้นักเรียนทดลอง  จากกล่อง ทรงปริซึ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84720" y="4941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4720" y="523080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11280" y="549360"/>
            <a:ext cx="82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ตัวอย่างที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จงหาปริมาตรของพีระมิดตรงฐานสี่เหลี่ยมจัตุรัส ด้านฐานยาว            ด้านละ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22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ซนติเมตร ส่วนสูง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11280" y="2205000"/>
            <a:ext cx="648180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ปริมาตรของพีระมิ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ื้นที่ฐาน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ได้ ปริมาตรของพีระมิดนี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(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ด้าน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ด้าน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( 22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22 )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2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2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2,420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ลูกบาศก์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51280" y="2060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51280" y="2349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51280" y="342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51280" y="371628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24360" y="2708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24360" y="2997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95280" y="189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ตัวอย่างที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จงหาปริมาตรของพีระมิดตรงฐานสี่เหลี่ยมจัตุรัส   ด้านฐานยาว                         ด้านละ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14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ซนติเมตร สูงเอียง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3141720"/>
            <a:ext cx="1726920" cy="1079280"/>
          </a:xfrm>
          <a:prstGeom prst="parallelogram">
            <a:avLst>
              <a:gd name="adj" fmla="val 400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58920" y="1628640"/>
            <a:ext cx="36036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258920" y="1628640"/>
            <a:ext cx="649080" cy="1944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55640" y="1628640"/>
            <a:ext cx="503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58920" y="1628640"/>
            <a:ext cx="7920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141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908000" y="321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00000" y="335772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58920" y="162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58920" y="3573360"/>
            <a:ext cx="6490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23640" y="1628640"/>
            <a:ext cx="9349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64000" y="126828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C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ป็นส่วนสูง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195640" y="1268280"/>
            <a:ext cx="329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ให้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ป็นความสูงเอียง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95640" y="184464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BC</a:t>
            </a:r>
            <a:r>
              <a:rPr b="0" lang="th-TH" sz="2800" spc="-1" strike="noStrike">
                <a:solidFill>
                  <a:srgbClr val="80808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ป็นความยาวครึ่งหนึ่งของด้านฐานยาว คือ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14 </a:t>
            </a:r>
            <a:r>
              <a:rPr b="0" lang="th-TH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= 7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ิ้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11280" y="2421000"/>
            <a:ext cx="626436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ตามทฤษฎีปีทาโกรัส ใน รูปสามเหลี่ยมมุมฉา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+ 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= 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th-TH" sz="3200" spc="-1" strike="noStrike" baseline="30000">
                <a:solidFill>
                  <a:srgbClr val="000000"/>
                </a:solidFill>
                <a:latin typeface="Angsana New"/>
              </a:rPr>
              <a:t>      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625 -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 =   5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C      =   24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ตอบ  ส่วนสูง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24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ิ้ว             ต้อง หาปริมาตร</a:t>
            </a:r>
            <a:r>
              <a:rPr b="0" lang="th-TH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0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6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63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4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4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8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8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9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9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2" dur="500" autoRev="1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03" dur="500" autoRev="1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04" dur="500" autoRev="1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0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9" dur="250" autoRev="1" fill="hold"/>
                                        <p:tgtEl>
                                          <p:spTgt spid="3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0" dur="500" autoRev="1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21" dur="500" autoRev="1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22" dur="500" autoRev="1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84360" y="765000"/>
            <a:ext cx="70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87280" y="1052640"/>
            <a:ext cx="648180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ปริมาตรของพีระมิ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ื้นที่ฐาน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ได้ ปริมาตรของพีระมิดนี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(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ด้าน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ด้าน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( 14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14 )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1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1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1,568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ลูกบาศก์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427640" y="836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427640" y="1125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500720" y="155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00720" y="18464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27640" y="2421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27640" y="270828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5554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พีระมิ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3141720"/>
            <a:ext cx="72072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5280" y="2060640"/>
            <a:ext cx="720720" cy="10810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835280" y="3860640"/>
            <a:ext cx="720720" cy="936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2664360" y="3033000"/>
            <a:ext cx="718920" cy="9363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971280" y="2997000"/>
            <a:ext cx="720720" cy="10098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508464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แผ่นคลี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2492280"/>
            <a:ext cx="1224000" cy="505080"/>
          </a:xfrm>
          <a:prstGeom prst="parallelogram">
            <a:avLst>
              <a:gd name="adj" fmla="val 60584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724360" y="155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24360" y="1557360"/>
            <a:ext cx="576360" cy="9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1557360"/>
            <a:ext cx="287640" cy="14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363640" y="1557360"/>
            <a:ext cx="360360" cy="93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076360" y="1557360"/>
            <a:ext cx="647640" cy="14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08360" y="378936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410920" y="3499920"/>
            <a:ext cx="12970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11640" y="2852640"/>
            <a:ext cx="129708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3141720"/>
            <a:ext cx="18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แท่งพีระม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4907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พีระมิ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452600">
            <a:off x="1547280" y="2997000"/>
            <a:ext cx="1079640" cy="934920"/>
          </a:xfrm>
          <a:prstGeom prst="triangle">
            <a:avLst>
              <a:gd name="adj" fmla="val 50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244000">
            <a:off x="5319360" y="2908440"/>
            <a:ext cx="1224000" cy="936360"/>
          </a:xfrm>
          <a:prstGeom prst="triangle">
            <a:avLst>
              <a:gd name="adj" fmla="val 50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796000" y="1989000"/>
            <a:ext cx="71280" cy="136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1989000"/>
            <a:ext cx="431640" cy="10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6000" y="1989000"/>
            <a:ext cx="360360" cy="216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148000" y="1989000"/>
            <a:ext cx="647640" cy="136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045400">
            <a:off x="2594880" y="2666880"/>
            <a:ext cx="1082880" cy="1593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9426800">
            <a:off x="899640" y="2133360"/>
            <a:ext cx="1057320" cy="13460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 rot="1413000">
            <a:off x="1042560" y="3788640"/>
            <a:ext cx="1056960" cy="1512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3640" y="4149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0920" y="3573000"/>
            <a:ext cx="1152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708360" y="3500280"/>
            <a:ext cx="19432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76360" y="508464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แผ่นคลี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292640"/>
            <a:ext cx="15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แท่งพีระม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4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24000" y="274680"/>
            <a:ext cx="48960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พีระมิ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177336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2133720"/>
            <a:ext cx="1368720" cy="1150920"/>
          </a:xfrm>
          <a:prstGeom prst="hexagon">
            <a:avLst>
              <a:gd name="adj" fmla="val 29731"/>
              <a:gd name="vf" fmla="val 11547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547640" y="3283920"/>
            <a:ext cx="648000" cy="13683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4398800">
            <a:off x="399240" y="2673360"/>
            <a:ext cx="647640" cy="14274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 rot="17986200">
            <a:off x="2665080" y="2600280"/>
            <a:ext cx="647640" cy="14414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 rot="14148000">
            <a:off x="2628720" y="1338840"/>
            <a:ext cx="647640" cy="1368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 rot="10800000">
            <a:off x="1547640" y="765000"/>
            <a:ext cx="648000" cy="1368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 rot="7191600">
            <a:off x="374400" y="1402560"/>
            <a:ext cx="647640" cy="1403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3141720"/>
            <a:ext cx="1727280" cy="431640"/>
          </a:xfrm>
          <a:prstGeom prst="hexagon">
            <a:avLst>
              <a:gd name="adj" fmla="val 100042"/>
              <a:gd name="vf" fmla="val 11547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084720" y="1773000"/>
            <a:ext cx="0" cy="15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1773360"/>
            <a:ext cx="863640" cy="15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1773360"/>
            <a:ext cx="432000" cy="1368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651280" y="1773360"/>
            <a:ext cx="433080" cy="1368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219280" y="1773360"/>
            <a:ext cx="865080" cy="15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51280" y="1773360"/>
            <a:ext cx="433080" cy="180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1773360"/>
            <a:ext cx="432000" cy="180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508464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แผ่นคลี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35280" y="407664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1979640" y="2852640"/>
            <a:ext cx="17287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211640" y="3500280"/>
            <a:ext cx="18003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4005360"/>
            <a:ext cx="15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แท่งพีระม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9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3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7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9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79280" y="283680"/>
            <a:ext cx="324180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ส่วนประกอบพีระมิ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3716280"/>
            <a:ext cx="2160720" cy="3589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067280" y="2060280"/>
            <a:ext cx="0" cy="18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419280" y="2060640"/>
            <a:ext cx="647640" cy="1655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987280" y="2060640"/>
            <a:ext cx="107964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2060640"/>
            <a:ext cx="64908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67280" y="2060640"/>
            <a:ext cx="1081080" cy="165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119700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ยอ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1773360"/>
            <a:ext cx="6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ั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227664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งเอีย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3068640"/>
            <a:ext cx="10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่วน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270828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งเอีย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851280" y="2060640"/>
            <a:ext cx="216000" cy="2016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67280" y="2060640"/>
            <a:ext cx="865080" cy="18730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2565360"/>
            <a:ext cx="1584360" cy="57636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643280" y="2997360"/>
            <a:ext cx="720720" cy="28728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71640" y="3357720"/>
            <a:ext cx="129564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2920" y="2060640"/>
            <a:ext cx="576360" cy="863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140000" y="1557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4508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492360" y="3860280"/>
            <a:ext cx="935280" cy="1008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458136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ด้าน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340000" y="4076280"/>
            <a:ext cx="1079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67280" y="3933720"/>
            <a:ext cx="865080" cy="0"/>
          </a:xfrm>
          <a:prstGeom prst="line">
            <a:avLst/>
          </a:prstGeom>
          <a:ln w="284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427280" y="3933720"/>
            <a:ext cx="2376360" cy="115272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0" y="5084640"/>
            <a:ext cx="33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ความยาวครึ่งหนึ่งของด้า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03280" y="1844640"/>
            <a:ext cx="144360" cy="20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5049200">
            <a:off x="2996280" y="2788200"/>
            <a:ext cx="1179360" cy="1009800"/>
          </a:xfrm>
          <a:prstGeom prst="parallelogram">
            <a:avLst>
              <a:gd name="adj" fmla="val 29198"/>
            </a:avLst>
          </a:prstGeom>
          <a:solidFill>
            <a:srgbClr val="f0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16360" y="2852640"/>
            <a:ext cx="1440000" cy="792360"/>
          </a:xfrm>
          <a:prstGeom prst="parallelogram">
            <a:avLst>
              <a:gd name="adj" fmla="val 45434"/>
            </a:avLst>
          </a:prstGeom>
          <a:solidFill>
            <a:srgbClr val="f0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2547800">
            <a:off x="6659640" y="3357360"/>
            <a:ext cx="1944720" cy="718920"/>
          </a:xfrm>
          <a:prstGeom prst="parallelogram">
            <a:avLst>
              <a:gd name="adj" fmla="val 133938"/>
            </a:avLst>
          </a:prstGeom>
          <a:solidFill>
            <a:srgbClr val="f0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9245400">
            <a:off x="610560" y="3141360"/>
            <a:ext cx="1657080" cy="792000"/>
          </a:xfrm>
          <a:prstGeom prst="parallelogram">
            <a:avLst>
              <a:gd name="adj" fmla="val 94007"/>
            </a:avLst>
          </a:prstGeom>
          <a:solidFill>
            <a:srgbClr val="99663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92360" y="83664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2360" y="836640"/>
            <a:ext cx="71928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16360" y="907920"/>
            <a:ext cx="57600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203640" y="836640"/>
            <a:ext cx="28872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332000" y="1844640"/>
            <a:ext cx="712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1844640"/>
            <a:ext cx="93672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39280" y="1844640"/>
            <a:ext cx="86364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076720" y="1052640"/>
            <a:ext cx="503280" cy="180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052640"/>
            <a:ext cx="57636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716000" y="1052640"/>
            <a:ext cx="86364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80000" y="981000"/>
            <a:ext cx="21600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24720" y="1557360"/>
            <a:ext cx="287280" cy="18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59280" y="1557360"/>
            <a:ext cx="86508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451280" y="1557360"/>
            <a:ext cx="7308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24720" y="1557360"/>
            <a:ext cx="107964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3849200">
            <a:off x="3341880" y="5307480"/>
            <a:ext cx="1214640" cy="914400"/>
          </a:xfrm>
          <a:prstGeom prst="parallelogram">
            <a:avLst>
              <a:gd name="adj" fmla="val 33209"/>
            </a:avLst>
          </a:prstGeom>
          <a:solidFill>
            <a:srgbClr val="f0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203640" y="4292280"/>
            <a:ext cx="64764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4292640"/>
            <a:ext cx="28908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51280" y="4292640"/>
            <a:ext cx="79200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780000" y="4292640"/>
            <a:ext cx="7128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3933720"/>
            <a:ext cx="289080" cy="1728720"/>
          </a:xfrm>
          <a:prstGeom prst="upArrow">
            <a:avLst>
              <a:gd name="adj1" fmla="val 17583"/>
              <a:gd name="adj2" fmla="val 149363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0720" y="836640"/>
            <a:ext cx="215640" cy="1224000"/>
          </a:xfrm>
          <a:prstGeom prst="downArrow">
            <a:avLst>
              <a:gd name="adj1" fmla="val 50000"/>
              <a:gd name="adj2" fmla="val 141903"/>
            </a:avLst>
          </a:prstGeom>
          <a:solidFill>
            <a:srgbClr val="f0a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89000"/>
            <a:ext cx="172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84720" y="40464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มุมมองจากบ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รู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5445000"/>
            <a:ext cx="129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มุมมองจากล่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12000" y="5373720"/>
            <a:ext cx="1295280" cy="1079640"/>
          </a:xfrm>
          <a:prstGeom prst="rect">
            <a:avLst/>
          </a:prstGeom>
          <a:solidFill>
            <a:srgbClr val="f0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012000" y="465300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012000" y="4653000"/>
            <a:ext cx="72072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32720" y="4653000"/>
            <a:ext cx="576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4653000"/>
            <a:ext cx="576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40000" y="98100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เรียก ตามลักษณะรูปเหลี่ยมของฐา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8000" y="260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การเรียกชื่อพีระมิ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3933720"/>
            <a:ext cx="1225440" cy="287280"/>
          </a:xfrm>
          <a:prstGeom prst="parallelogram">
            <a:avLst>
              <a:gd name="adj" fmla="val 106642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3789360"/>
            <a:ext cx="1511280" cy="360360"/>
          </a:xfrm>
          <a:prstGeom prst="hexagon">
            <a:avLst>
              <a:gd name="adj" fmla="val 104845"/>
              <a:gd name="vf" fmla="val 11547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0800000">
            <a:off x="4716000" y="3715920"/>
            <a:ext cx="1513080" cy="289080"/>
          </a:xfrm>
          <a:prstGeom prst="triangle">
            <a:avLst>
              <a:gd name="adj" fmla="val 50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093080" y="3859920"/>
            <a:ext cx="1295280" cy="289080"/>
          </a:xfrm>
          <a:prstGeom prst="pentagon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4724280"/>
            <a:ext cx="180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ีระมิดสี่เหลี่ยมผืนผ้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43280" y="4724280"/>
            <a:ext cx="129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ีระมิด หกเหลี่ย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32360" y="4653000"/>
            <a:ext cx="158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ีระมิดสามเหลี่ย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20000" y="4581360"/>
            <a:ext cx="14396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ีระมิด   ห้าเหลี่ย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84360" y="2708280"/>
            <a:ext cx="64764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32000" y="2708280"/>
            <a:ext cx="28728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2708280"/>
            <a:ext cx="576000" cy="12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971280" y="2708280"/>
            <a:ext cx="360360" cy="122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2421000"/>
            <a:ext cx="35892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058920" y="2421000"/>
            <a:ext cx="43308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700360" y="2421000"/>
            <a:ext cx="79200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2421000"/>
            <a:ext cx="71928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058920" y="2421000"/>
            <a:ext cx="43308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2421000"/>
            <a:ext cx="35892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2349360"/>
            <a:ext cx="71892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716000" y="2349360"/>
            <a:ext cx="79236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435280" y="2349360"/>
            <a:ext cx="7308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740720" y="2421000"/>
            <a:ext cx="36036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380000" y="2421000"/>
            <a:ext cx="36036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7092720" y="2421000"/>
            <a:ext cx="6476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40720" y="2421000"/>
            <a:ext cx="64764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40720" y="2421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64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การหา ความ</a:t>
            </a:r>
            <a:r>
              <a:rPr b="0" lang="hi-IN" sz="4000" spc="-1" strike="noStrike">
                <a:solidFill>
                  <a:srgbClr val="99cc00"/>
                </a:solidFill>
                <a:latin typeface="Arial"/>
              </a:rPr>
              <a:t>สูงเอีย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กรณีมี</a:t>
            </a:r>
            <a:r>
              <a:rPr b="0" lang="hi-IN" sz="4000" spc="-1" strike="noStrike">
                <a:solidFill>
                  <a:srgbClr val="333399"/>
                </a:solidFill>
                <a:latin typeface="Arial"/>
              </a:rPr>
              <a:t>ความยาวสัน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2421000"/>
            <a:ext cx="1726920" cy="1079280"/>
          </a:xfrm>
          <a:prstGeom prst="parallelogram">
            <a:avLst>
              <a:gd name="adj" fmla="val 400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907920"/>
            <a:ext cx="36036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971640" y="907920"/>
            <a:ext cx="287280" cy="2592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23640" y="907920"/>
            <a:ext cx="9349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755640" y="907920"/>
            <a:ext cx="503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907920"/>
            <a:ext cx="7920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765000"/>
            <a:ext cx="64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ตัวอย่างที่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พีระมิดฐานสี่เหลี่ยมจัตุรัสมีด้านฐานยาวด้านละ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6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ี้วสันยาว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5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ิ้ว จงหาความสูงเอีย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5640" y="692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3429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3280" y="35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191628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ให้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C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ป็นสัน ยาว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5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ิ้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92720" y="1916280"/>
            <a:ext cx="31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และ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ป็นความสูงเอียง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24000" y="256536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BC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ป็นความยาวครึ่งหนึ่งของด้านฐาน ยาว คือ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6 </a:t>
            </a:r>
            <a:r>
              <a:rPr b="0" lang="th-TH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= 3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ิ้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3141720"/>
            <a:ext cx="59770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ตามทฤษฎีปีทาโกรัส ใน รูปสามเหลี่ยมมุมฉา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+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=   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th-TH" sz="3200" spc="-1" strike="noStrike" baseline="30000">
                <a:solidFill>
                  <a:srgbClr val="000000"/>
                </a:solidFill>
                <a:latin typeface="Angsana New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25  -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   =  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        =   4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        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ตอบ  สูงเอียง 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4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ิ้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4" dur="500" autoRev="1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15" dur="500" autoRev="1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16" dur="500" autoRev="1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1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2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2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2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41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843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46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4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4000" y="2421000"/>
            <a:ext cx="1726920" cy="1079280"/>
          </a:xfrm>
          <a:prstGeom prst="parallelogram">
            <a:avLst>
              <a:gd name="adj" fmla="val 400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56000" y="189000"/>
            <a:ext cx="5543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การหาความสูงเอียง กรณีมี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ส่วนสู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8920" y="907920"/>
            <a:ext cx="36036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907920"/>
            <a:ext cx="649080" cy="1944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55640" y="907920"/>
            <a:ext cx="503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907920"/>
            <a:ext cx="7920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32000" y="692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8000" y="249228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263700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8920" y="90792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852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56000" y="836640"/>
            <a:ext cx="60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ตัวอย่างที่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พีระมิดฐานสี่เหลี่ยมจัตุรัสมีด้านฐานยาวด้านละ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10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ี้วส่วนสูงยาว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12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ิ้ว จงหาความสูงเอีย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1916280"/>
            <a:ext cx="35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ให้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C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ป็นส่วนสูง ยาว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12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ิ้ว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80000" y="191628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และ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ป็นความสูงเอียง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68360" y="2565360"/>
            <a:ext cx="68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BC</a:t>
            </a:r>
            <a:r>
              <a:rPr b="0" lang="th-TH" sz="2800" spc="-1" strike="noStrike">
                <a:solidFill>
                  <a:srgbClr val="80808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ป็นความยาวครึ่งหนึ่งของด้านฐาน ยาว คือ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10 </a:t>
            </a:r>
            <a:r>
              <a:rPr b="0" lang="th-TH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= 5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ิ้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23640" y="907920"/>
            <a:ext cx="9349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3213000"/>
            <a:ext cx="6048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ตามทฤษฎีปีทาโกรัส ใน รูปสามเหลี่ยมมุมฉา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 =  1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+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th-TH" sz="3200" spc="-1" strike="noStrike" baseline="30000">
                <a:solidFill>
                  <a:srgbClr val="000000"/>
                </a:solidFill>
                <a:latin typeface="Angsana New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144 +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   =   1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AB        =   13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        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ตอบ  สูงเอียง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13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นิ้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6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62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9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9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9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9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6" dur="500" autoRev="1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07" dur="500" autoRev="1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08" dur="500" autoRev="1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3" dur="250" autoRev="1" fill="hold"/>
                                        <p:tgtEl>
                                          <p:spTgt spid="2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05:27:05Z</dcterms:created>
  <dc:creator>ICT PC</dc:creator>
  <dc:description/>
  <dc:language>en-US</dc:language>
  <cp:lastModifiedBy>IT_N</cp:lastModifiedBy>
  <dcterms:modified xsi:type="dcterms:W3CDTF">2009-03-15T01:25:53Z</dcterms:modified>
  <cp:revision>121</cp:revision>
  <dc:subject/>
  <dc:title>พื้นที่และปริมาตร</dc:title>
</cp:coreProperties>
</file>